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864-A01E-40A6-AB1B-C728D99E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ABD-160B-4BD2-80F0-FC48D7B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06A-F4F2-4840-B3F9-D464051F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70B-B0AE-4ABB-BC65-8B1A9556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967F-EB9A-4FD4-BF60-8C1E867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839C-F79B-405B-9210-AE88939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0C5F-91D7-4348-956E-AA87F565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DDFB-EB5F-48CC-AA6D-F46AD5FC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9EC-15EB-41A8-9054-531DC157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FBF5-593F-405D-9B11-F70265BA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253-39AA-402D-88E9-D9D840B7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1A9-4B52-4635-ABD8-50368C3D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3A2-8D9C-48BC-AAC3-6B449B48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17B0-C3C1-4DEC-922A-F917E3A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B954-3A60-49B0-A3C4-668D1E2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5E4-BFB0-4EA9-95C9-F4B2D8F4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D639-570F-4F07-B3D0-8DD74E90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717B-FE4C-47FB-A0E2-FD11A286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C6B1-14B7-4884-90B0-B69400C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C70F-186E-43AD-8931-9B0FEDEB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595A-82CF-479C-8089-8DC306B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86EB-B8B1-4370-B564-013B7D05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591-FC85-4A40-8BD0-5B463CE9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18BA-01C9-489F-8AE4-EF8D0B3E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0436-62EC-4BCC-B141-F26EC2C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282C-EBED-4270-BD7A-E0D9AFF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5712-F2CB-4226-90F3-18FCBFB5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9ADF-2B8A-4A94-8AC2-FE1F223E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EFDA-58D8-4837-A083-B6BED6C5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9E16-EA9E-47CF-8C86-215426CC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05E3-8C98-4CCC-B196-4BC8292B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0D2A-12B6-4B33-A81D-8274E8C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0B45-C3EF-4F5F-A26A-402B6E9A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E61-EE90-44FF-9061-3655F233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E2FA5-2C72-46DE-8967-EA62A53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4C56-8113-4C17-A0C9-5C7C470A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E2CD-B293-4FC6-86CE-3E9F7EF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0E94-DC5A-43A5-A559-95280AD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F422-F96F-4BF6-B28E-B4CE1D1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CB18-E156-4768-8BDF-2920477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91A6C-5F9B-45CC-91EE-7FE322A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80E86-5100-4613-838A-76E9D606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91E3-6CBF-4BDA-B3BD-9935A847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3AF-6FB6-4B82-AF0E-02427A3A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20B-0F2D-42BA-A2BA-9BB8E67E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B01-BF11-4F07-A7F3-8676E8F7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BE1-FB1A-49BC-912E-A996FF64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4FC-ACD0-436F-BCFC-2D571AA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8F4-79DA-486B-9139-C37199E087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324-2D74-4F01-A9AB-85BC8808E40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0607-A4C5-43DA-B827-2A2D6B86641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E9E2-21E6-49D3-BBD8-F963074CE7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this unit students will be able to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amplitude, period and phase shift of a trigonometric equation or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graph of a trigonometric eq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equation given a sin/cosine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ve real world problems using a sinusoidal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their own sinusoidal application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iculum Fram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:    How do patterns affect 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:  Which trigonometric function should I use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l this situation and 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situation that can be modeled using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usoidal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nt:  What is the equation of the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graph of this eq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l world conn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ean tides—students graph depth of the tides at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egon co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—students collect and graph the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 over 24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is wheel—students graph their height as they r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rris whe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—students collect and analyze their he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t rest, after exercising, after drin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ffeinated bever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heart rate monitors to collect data on:   resting heart rat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exercis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drinking a caffeinated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google form to post reflections about their understanding of classroom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choose an occupation in wh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ing heart rate is an essential t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, trainer, nurse, paramedic, athlet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will choose a layout format and creat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ument explaining how heart rate is used 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ir occup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mphlet, poster, web sit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34Z</dcterms:created>
  <dc:creator>Lab1</dc:creator>
  <dc:description/>
  <dc:language>en-US</dc:language>
  <cp:lastModifiedBy>Lab1</cp:lastModifiedBy>
  <dcterms:modified xsi:type="dcterms:W3CDTF">2010-08-06T14:50:35Z</dcterms:modified>
  <cp:revision>9</cp:revision>
  <dc:subject/>
  <dc:title>Sinusoidal Graphs</dc:title>
</cp:coreProperties>
</file>